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FE9B-10A8-4301-A66A-C1FD494C8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rketing of employment information to immigrants requires knowledge of about where immigrants look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for research in this area and there is not much. I will share with you the little information t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d to find gaps between where immigrants look for information and the channels that have actually been used to channel employment information to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language media is very useful to reach the Chinese and South Asian communities. But it would be important to also know the media habits of all immigrant communities. Habits vary from one community to another and we do not have all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is a viable channel for targeting employment to Chinese and south Asian immigrant communities. But this result could vary from community to community. A more complete picture of this variability would be useful if we had all th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gles was contracted to use a multimedia and multilingual approach to promote 3 settlement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settlement.org (A comprehensive website for newcomer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comer Information Centres (3 Toronto, 2 Mississauga, 2 Brampton, 1 Caledon, 1 Oakville and 1 Ottaw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amp; 211 Peel (24/7 multi-language phone referral serv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mpaign consisted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and placing ads in 22 ethnic publica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cing ads on the websites of 14 of the 22 ethnic publications contracted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translating and distributing brochures throughout the GTA and in the Ottawa area where the ethnic publications are circulated and where the targeted newcomer communities liv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ing  settlement information in ethnic languages and through multiple media proved very effective as all 3 services saw significant growth in traffic within the 6 months of the campaign.</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more than 6.4 million impressions from the combined circulation figures of all 22 ethnic publications over the six month perio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10 Newcomer Information Centres (NIC) posted significant incr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arch/10 the Toronto sites were the highest on record for new clients ser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ttawa site saw a 100% increase in new and repeat clients for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ix NIC sites operated by Centre for Education and Training (CET) showed dramatic increases of over 100% in October/09 and 110% in November/09 compared to the year befo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posted an 18% increase in monthly calls in March/10 compared to February/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 Peel indicated a 110% increase in November/09 compared to November/0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www.settlement.org showed a 40% increase in unique users (first time users) in March/10 compared to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Bridger is the only internet-based social network of immigrants that was formally studied. This is a moderated email network of Chinese immigrants exchanging information on various topics of common interest to the community. The study found it very useful in providing Chinese immigrants with useful settle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ecdotal evidence of the proliferation of social networking sites for newcom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 and sector specific networks are especially useful for targeting occupation specific information through the most effective channels and using the most effective langu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type of medi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media carri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stream media carried about 13%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urhood media carried about 12% employ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very little employment information is provided thru all media types, compared to all other settlement information. The little employment  content available was channeled mainly through Mainstream and Neibourhood (local geographical area) media. Very little employment content was channeled through ethnic media (a more trusted channel). This is a disconnect between where immigrants look for employment information and where it can  actually be foun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media technology.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contained less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contain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contained slightly more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tained 8% employm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ed to other forms of settlement information, employment information is the least in all media technologies. </a:t>
            </a:r>
            <a:r>
              <a:rPr b="0" lang="en-US" sz="600" spc="-1" strike="noStrike">
                <a:solidFill>
                  <a:srgbClr val="000000"/>
                </a:solidFill>
                <a:latin typeface="Arial"/>
              </a:rPr>
              <a:t>Of the little employment information made available, most of it was channeled through websites.</a:t>
            </a:r>
            <a:r>
              <a:rPr b="0" lang="en-US" sz="800" spc="-1" strike="noStrike">
                <a:solidFill>
                  <a:srgbClr val="000000"/>
                </a:solidFill>
                <a:latin typeface="Arial"/>
              </a:rPr>
              <a:t>  As we have seen, more recent statistics show that 78% of new immigrants use the internet. Therefore the internet is a good tool for channeling employment information to immigrant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Effectiveness of Advertising Channel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wspaper/Magazi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8% Metro paper (expensive but most cost-effective with bu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 calls from Magazines (Canadian Newcomer and Canadian Immigrant magazines) but their online advertising did work (see belo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2% other papers but surprisingly, not many calls from ethnic papers (maybe not enough advertising the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papers, calls mainly came in on behalf of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 Bus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Subway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bi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bu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online, including PSAs (Canadian Newcomer Magazine Online and Google, mai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V/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we note that the traditional channels of advertising ( The transit channels and the newspapers are still very effecti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vertising combined with a multimedia and multilingual approach is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materials is a daunting task and translated materials are few. But we now know from the Jangles promotion that in-language advertising is very 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an example of  a mismatch between where immigrants look for employment information and where this information could actually be f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immigrants went to ethnic media to look for employment information, the information had been channeled through mainstream med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gard we gathered information a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mmigrants look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demographics are aware of employment information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communities go where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s employment information been channeled to immig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are the promising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and more in Canada and immigrants are still looking for employment information. That brings to doubt the effectiveness of their main source of information: Family an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employment information be channeled to employed immigrants? Strategies may need to be developed around this ques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eris study – a  geographical mapping of settlement services in the York region found that New immigrants’ awareness of employment services depended on their demographic and other characterist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cultural demographics in order to target employment information more effectively. Fewer people from East and South Asian immigrant communities had heard about certain service providers in the York Region probably because these services were not advertised in the media of their preferen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what this Toronto Immigrant Employment Data Initiative study is showing us  we now know that  employment information from family and friends does not result in well paying jobs and most immigrants fall in this category. The questions to ask then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immigrants trust this source of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source of information be made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ake immigrants trust other more reliabl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questions could be answered through a more comprehensive research eff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IGR Communications and Marketing Working group shared some promising strategies and practices that are currently being implemented in their agencies. There is anecdotal evidence that these initiatives are being effectiv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most of these new initiatives have not yet been formally evaluated, anecdotal evidence suggests that they are very prom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rdinated approach to these promising initiatives could be more effective in bringing employment information to where immigrants a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more work is needed to shed light on sources of information for various immigrant demographic and ethnic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consideration for the Communications and Marketing working group could be undertaking comprehensive research into these matters as a join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Canada: LSIC, 2003, page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for Change Annual Report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ternet-based social support networks in immigrant settlement – a case study of the NewBridger, Julie Xiaoping Lin et al,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Programming throuogh the media, Karim H. Karim, Mahmoud Eid and Boulou Ebanda de B’ber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mmigrants’ Awareness of, Access to, Use of and Satisfaction with Settlement services in the York Region, Lucia Lo et al, 2010 CERIS working paper number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in the workplace, the settlement needs of employed newcomers, an exploratory study, R J Sparks Consulting Inc. and WGW Services, sponsored by COSTI Immigrant Services,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nitiative, March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s of the settlement.org evaluation survey, Arnold love, June 15,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rku.ca/tiedi/doc/AnalyticalReport7.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SIC results here suggest that close to 70% of new immigrants got their employment information from friends relatives and household memb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 information was from Skills for Change an agency that provides employment support services to immigrants. They  asked their clients how they heard about their services and found that 51% of their 14 000 + clients had heard about them from a friend, a result still consistent with the LSIC finding. This is the most recent information we have about where immigrants get their employment information fr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IC carried out a  Learn Speak Live (LSL) campaign earlier this year( March to May 20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incorporated a lot of evaluation components to gage the effectiveness of different approaches of the campaig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ness was measured by asking callers to disclose their  source of information about learn speak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campaign LSL experienced a spike in hits to </a:t>
            </a:r>
            <a:r>
              <a:rPr b="0" lang="en-CA" sz="1000" spc="-1" strike="noStrike">
                <a:solidFill>
                  <a:srgbClr val="000000"/>
                </a:solidFill>
                <a:latin typeface="Arial"/>
              </a:rPr>
              <a:t>1.3 million page cli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5 phone numbers were used with the advertis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TV/Radio 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print advertising (mainly newspaper and magaz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nd 3 for regional advertising (one each for Peel, Toronto and York), which includes transit advertising and the online promo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 want to note at this stage is the fact that 40% of the calls were made on behalf of friend or spouse. This is also evidence that immigrants still rely on information from friends and family. In this particular case, I suspect that immigrants may be relying on family and friends for information because of language or cultural issues. A better understanding of the reasons why one might want another person to call on their behalf might help information marketers to target information to where it is needed m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ost popular time to visit site  was evening and early morning (1-3 am) (so likely  that visitors mainly working) That tells us that working immigrants are still looking for employment information. They could be under employ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formation shows that immigrants get a lot of their information from websites. Although there is an obvious selection bias with this data in the sense that all people surveyed were users of a website responding to a survey on the website, the results show a significant number of respondents got their settlement information from webs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ey preferred using websites , 78% said websites were faster and Reli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they stay the more immigrants seek information from the intern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380880" y="304920"/>
            <a:ext cx="1828800" cy="1096920"/>
          </a:xfrm>
          <a:prstGeom prst="rect">
            <a:avLst/>
          </a:prstGeom>
          <a:ln w="0">
            <a:noFill/>
          </a:ln>
        </p:spPr>
      </p:pic>
      <p:sp>
        <p:nvSpPr>
          <p:cNvPr id="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1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0880" y="304920"/>
            <a:ext cx="1828800" cy="1096920"/>
          </a:xfrm>
          <a:prstGeom prst="rect">
            <a:avLst/>
          </a:prstGeom>
          <a:ln w="0">
            <a:noFill/>
          </a:ln>
        </p:spPr>
      </p:pic>
      <p:sp>
        <p:nvSpPr>
          <p:cNvPr id="4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pic>
        <p:nvPicPr>
          <p:cNvPr id="45" name="" descr=""/>
          <p:cNvPicPr/>
          <p:nvPr/>
        </p:nvPicPr>
        <p:blipFill>
          <a:blip r:embed="rId3"/>
          <a:stretch/>
        </p:blipFill>
        <p:spPr>
          <a:xfrm>
            <a:off x="228600" y="1523880"/>
            <a:ext cx="8683560" cy="7146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0.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000"/>
            <a:ext cx="77724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PlaceHolder 2"/>
          <p:cNvSpPr>
            <a:spLocks noGrp="1"/>
          </p:cNvSpPr>
          <p:nvPr>
            <p:ph type="subTitle"/>
          </p:nvPr>
        </p:nvSpPr>
        <p:spPr>
          <a:xfrm>
            <a:off x="228600" y="2742840"/>
            <a:ext cx="8569440" cy="25909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Marketing Employment Information to Immigrants</a:t>
            </a:r>
            <a:br>
              <a:rPr sz="3200"/>
            </a:br>
            <a:endParaRPr b="0" lang="en-US" sz="32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findings from past and recent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nd South Asians are heavy consumers of in-language m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TV networks/digital stations that have some multilingual coverage, 47 radio stations that represent over 70 different ethnic groups, 195 newspapers/magazines for 44 different cultural groups, including some dailys/weekl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is Diversite – Diversity Initiativ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Internet Use Survey, 2007 (Statistics Canada)</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85800" y="2057400"/>
            <a:ext cx="7696080" cy="2986200"/>
          </a:xfrm>
          <a:prstGeom prst="rect">
            <a:avLst/>
          </a:prstGeom>
          <a:ln w="0">
            <a:noFill/>
          </a:ln>
        </p:spPr>
      </p:pic>
      <p:sp>
        <p:nvSpPr>
          <p:cNvPr id="122" name=""/>
          <p:cNvSpPr/>
          <p:nvPr/>
        </p:nvSpPr>
        <p:spPr>
          <a:xfrm>
            <a:off x="4114800" y="5867280"/>
            <a:ext cx="4648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cultural Imperative - Environics</a:t>
            </a:r>
            <a:endParaRPr b="0" lang="en-US" sz="1800" spc="-1" strike="noStrike">
              <a:solidFill>
                <a:srgbClr val="000000"/>
              </a:solidFill>
              <a:latin typeface="Arial"/>
            </a:endParaRPr>
          </a:p>
        </p:txBody>
      </p:sp>
      <p:sp>
        <p:nvSpPr>
          <p:cNvPr id="12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7" name="PlaceHolder 2"/>
          <p:cNvSpPr>
            <a:spLocks noGrp="1"/>
          </p:cNvSpPr>
          <p:nvPr>
            <p:ph/>
          </p:nvPr>
        </p:nvSpPr>
        <p:spPr>
          <a:xfrm>
            <a:off x="304560" y="1773000"/>
            <a:ext cx="8381880" cy="394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Internet based informal social networ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et based informal social networks were very useful for provi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 with the following supports:</a:t>
            </a:r>
            <a:br>
              <a:rPr sz="2000"/>
            </a:b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and suppor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referr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txBox="1"/>
          <p:nvPr/>
        </p:nvSpPr>
        <p:spPr>
          <a:xfrm>
            <a:off x="3657240" y="5791320"/>
            <a:ext cx="5257800" cy="411120"/>
          </a:xfrm>
          <a:prstGeom prst="rect">
            <a:avLst/>
          </a:prstGeom>
          <a:noFill/>
          <a:ln w="0">
            <a:noFill/>
          </a:ln>
        </p:spPr>
        <p:txBody>
          <a:bodyPr lIns="90000" rIns="90000" tIns="46800" bIns="46800"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ridger Study-(Julie Xiaoping Lin et al, 2010)</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2819520" y="304920"/>
            <a:ext cx="601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er and informal networks are important for marketing employment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and informal networks are important for </a:t>
            </a:r>
            <a:r>
              <a:rPr b="1" lang="en-US" sz="2000" spc="-1" strike="noStrike">
                <a:solidFill>
                  <a:srgbClr val="000000"/>
                </a:solidFill>
                <a:latin typeface="Arial"/>
              </a:rPr>
              <a:t>	</a:t>
            </a:r>
            <a:r>
              <a:rPr b="1" lang="en-US" sz="2000" spc="-1" strike="noStrike">
                <a:solidFill>
                  <a:srgbClr val="000000"/>
                </a:solidFill>
                <a:latin typeface="Arial"/>
              </a:rPr>
              <a:t>marketing employment information to immigrants</a:t>
            </a:r>
            <a:endParaRPr b="0" lang="en-US" sz="2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C’s PINS is a good example of immigrant peer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active networks were found during TRIEC’s environmental sc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groups on the on-line direc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r so groups have an estimated electronic reach of over 30,000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 of the groups are ethno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are sector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s include: Engineering, Accounting, Social work, Architecture, IT, Law, Healthcare, Business Management, Food Service, Natural Sciences and Academ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76880" y="5919840"/>
            <a:ext cx="5307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pic>
        <p:nvPicPr>
          <p:cNvPr id="135" name="" descr=""/>
          <p:cNvPicPr/>
          <p:nvPr/>
        </p:nvPicPr>
        <p:blipFill>
          <a:blip r:embed="rId1"/>
          <a:stretch/>
        </p:blipFill>
        <p:spPr>
          <a:xfrm>
            <a:off x="1371600" y="1676520"/>
            <a:ext cx="6477120" cy="3809880"/>
          </a:xfrm>
          <a:prstGeom prst="rect">
            <a:avLst/>
          </a:prstGeom>
          <a:ln w="0">
            <a:noFill/>
          </a:ln>
        </p:spPr>
      </p:pic>
      <p:sp>
        <p:nvSpPr>
          <p:cNvPr id="136"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1447920"/>
            <a:ext cx="7417080" cy="3504960"/>
          </a:xfrm>
          <a:prstGeom prst="rect">
            <a:avLst/>
          </a:prstGeom>
          <a:ln w="0">
            <a:noFill/>
          </a:ln>
        </p:spPr>
      </p:pic>
      <p:sp>
        <p:nvSpPr>
          <p:cNvPr id="138" name=""/>
          <p:cNvSpPr txBox="1"/>
          <p:nvPr/>
        </p:nvSpPr>
        <p:spPr>
          <a:xfrm>
            <a:off x="380880" y="5029200"/>
            <a:ext cx="8229600" cy="9828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little employment information made available, most of it was channeled through websit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sp>
        <p:nvSpPr>
          <p:cNvPr id="139" name=""/>
          <p:cNvSpPr/>
          <p:nvPr/>
        </p:nvSpPr>
        <p:spPr>
          <a:xfrm>
            <a:off x="2666880" y="304920"/>
            <a:ext cx="60199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re is a lack of translated materials.</a:t>
            </a:r>
            <a:endParaRPr b="0" lang="en-US" sz="2000" spc="-1" strike="noStrike">
              <a:solidFill>
                <a:srgbClr val="000000"/>
              </a:solidFill>
              <a:latin typeface="Arial"/>
            </a:endParaRPr>
          </a:p>
        </p:txBody>
      </p:sp>
      <p:sp>
        <p:nvSpPr>
          <p:cNvPr id="145" name="PlaceHolder 2"/>
          <p:cNvSpPr>
            <a:spLocks noGrp="1"/>
          </p:cNvSpPr>
          <p:nvPr>
            <p:ph/>
          </p:nvPr>
        </p:nvSpPr>
        <p:spPr>
          <a:xfrm>
            <a:off x="456840" y="1600200"/>
            <a:ext cx="84582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eton Research Conclusions</a:t>
            </a:r>
            <a:br>
              <a:rPr sz="1600"/>
            </a:b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want practical information on employment, health care, education and hou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sufficient information on where to go to get settlement related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ack of translated material on settlement related su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o-cultural media are looking for clear and reliable settlement information in multiple languages but cannot find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is preferred over video and TV as it can be read repeated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experience difficulty in using automated services or accessing internet websites that exclusively or predominately are in English or Frenc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txBox="1"/>
          <p:nvPr/>
        </p:nvSpPr>
        <p:spPr>
          <a:xfrm>
            <a:off x="457200" y="5791320"/>
            <a:ext cx="8229600" cy="334800"/>
          </a:xfrm>
          <a:prstGeom prst="rect">
            <a:avLst/>
          </a:prstGeom>
          <a:noFill/>
          <a:ln w="0">
            <a:noFill/>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fr-CA" sz="1600" spc="-1" strike="noStrike">
                <a:solidFill>
                  <a:srgbClr val="000000"/>
                </a:solidFill>
                <a:latin typeface="Arial"/>
              </a:rPr>
              <a:t>Karim H. Karim, Et al, 2007) - </a:t>
            </a:r>
            <a:r>
              <a:rPr b="0" lang="en-US" sz="1600" spc="-1" strike="noStrike">
                <a:solidFill>
                  <a:srgbClr val="000000"/>
                </a:solidFill>
                <a:latin typeface="Arial"/>
              </a:rPr>
              <a:t>Carleto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Key Questions</a:t>
            </a:r>
            <a:endParaRPr b="0" lang="en-US" sz="2000" spc="-1" strike="noStrike">
              <a:solidFill>
                <a:srgbClr val="000000"/>
              </a:solidFill>
              <a:latin typeface="Arial"/>
            </a:endParaRPr>
          </a:p>
        </p:txBody>
      </p:sp>
      <p:sp>
        <p:nvSpPr>
          <p:cNvPr id="93" name="PlaceHolder 2"/>
          <p:cNvSpPr>
            <a:spLocks noGrp="1"/>
          </p:cNvSpPr>
          <p:nvPr>
            <p:ph/>
          </p:nvPr>
        </p:nvSpPr>
        <p:spPr>
          <a:xfrm>
            <a:off x="457200" y="1904760"/>
            <a:ext cx="8229600" cy="380988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immigrants get employment informatio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emographic characteristics of immigrants determine their level of awareness of employment information or settlement information in general?</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media habits of immigrants?</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edia channels have been used to market employment information to immigrants and how effective have they bee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employment information be better channeled to immigrants? </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mmigrants trust and access ethno-cultural med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1600200"/>
            <a:ext cx="86868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 (</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ore than 6.4 million impressions from the combined circulation figures of all 22 ethnic publications over the six month period. – Jangles productions campaig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and South Asians are heavy consumers of in-language media Canada)  - 41 TV networks/digital stations that have some multilingual coverage, 47 radio stations that represent over 70 different ethnic groups, 195 newspapers/magazines for 44 different cultural groups, including some dailys/weeklys -Diversity Initiative Canadian Internet Use Survey, 2007 (Statistics Canad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 of Chinese and South Asian families watch TV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Listen to radio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read newspapers daily- The Multicultural Imperative - Environ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09320" y="609120"/>
            <a:ext cx="63248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mployed immigrants are looking for employment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peak Live Evalua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callers were Canadian Citize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pular time to visit site evening and early morning (1-3 am) (so likely that visitors mainly wor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or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settlement.org visitors have been in Canada 5 + yea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IS working paper # 7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t of newcomers have taken up survival jobs and no information is available to them about how they can find an appropriate job. - (Lucia Lo et al, 2010: CERIS working paper # 79 (York Region acc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304920"/>
            <a:ext cx="609588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0. Women fare worse than men and they are under inform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immigrants appeared to be more informed than female immigrants –CERIS #79</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women fare worse than Canadian-born women, Canadian-born men, and immigrant men. - TIEDI Analytical Report 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Cultural demographics matter regarding media access</a:t>
            </a:r>
            <a:endParaRPr b="0" lang="en-US" sz="2000" spc="-1" strike="noStrike">
              <a:solidFill>
                <a:srgbClr val="000000"/>
              </a:solidFill>
              <a:latin typeface="Arial"/>
            </a:endParaRPr>
          </a:p>
        </p:txBody>
      </p:sp>
      <p:sp>
        <p:nvSpPr>
          <p:cNvPr id="154" name="PlaceHolder 2"/>
          <p:cNvSpPr>
            <a:spLocks noGrp="1"/>
          </p:cNvSpPr>
          <p:nvPr>
            <p:ph/>
          </p:nvPr>
        </p:nvSpPr>
        <p:spPr>
          <a:xfrm>
            <a:off x="457200" y="1752480"/>
            <a:ext cx="8229600" cy="1067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 from East and South Asia had heard of some  service providers  in the York Region– Ceris # 79</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457200" y="3200040"/>
            <a:ext cx="8229600" cy="2895480"/>
          </a:xfrm>
          <a:prstGeom prst="rect">
            <a:avLst/>
          </a:prstGeom>
          <a:ln w="0">
            <a:noFill/>
          </a:ln>
        </p:spPr>
      </p:pic>
      <p:pic>
        <p:nvPicPr>
          <p:cNvPr id="156" name="" descr=""/>
          <p:cNvPicPr/>
          <p:nvPr/>
        </p:nvPicPr>
        <p:blipFill>
          <a:blip r:embed="rId2"/>
          <a:stretch/>
        </p:blipFill>
        <p:spPr>
          <a:xfrm>
            <a:off x="762120" y="3200400"/>
            <a:ext cx="7696080" cy="26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demographics matter regarding media access</a:t>
            </a:r>
            <a:endParaRPr b="0" lang="en-US" sz="2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of Chinese and South Asian Immigrants use the internet (above national averages) and average 1.8  hours online da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news stories, union postings, and recruitment agencies had the high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personal initiative, family or friends, and Canada Employment Centres had the low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immigrants had higher wages when they found their job through the internet or by personal initiati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nts are more likely to have found their current jobs through sources of information resulting in lower wages (family and friends, personal initiative), than those providing access to higher wages (union postings, news stories or recruitment agenc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who had found their current job through news stories, job fairs, the internet, Canada Employment Centres, or help wanted ads earned more than Canadian-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women fare worse than Canadian-born women, Canadian-born men, and immigrant men.</a:t>
            </a:r>
            <a:endParaRPr b="0" lang="en-US" sz="1800" spc="-1" strike="noStrike">
              <a:solidFill>
                <a:srgbClr val="000000"/>
              </a:solidFill>
              <a:latin typeface="Arial"/>
            </a:endParaRPr>
          </a:p>
        </p:txBody>
      </p:sp>
      <p:sp>
        <p:nvSpPr>
          <p:cNvPr id="160" name=""/>
          <p:cNvSpPr/>
          <p:nvPr/>
        </p:nvSpPr>
        <p:spPr>
          <a:xfrm>
            <a:off x="5946480" y="59436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I Analytical Report 7</a:t>
            </a:r>
            <a:endParaRPr b="0" lang="en-US" sz="1800" spc="-1" strike="noStrike">
              <a:solidFill>
                <a:srgbClr val="000000"/>
              </a:solidFill>
              <a:latin typeface="Arial"/>
            </a:endParaRPr>
          </a:p>
        </p:txBody>
      </p:sp>
      <p:sp>
        <p:nvSpPr>
          <p:cNvPr id="16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Employment outcomes depend on immigrant sources of employmen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SD’s work in Canada portal is now on 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Twitter to announce new progra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You Tube to market settlement information to immigra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I has a presence on Facebook, marketing Opportunities Ontario information to foreign graduate students studying in Ontar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recently launched the inmylanguage.org website targeted at immigrants in 12 langu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outreach still important - important to go where newcomers a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working  with ESL instructors to integrate web content into ESL lesson pla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will be running a CIC marketing campaign - mainly focused on some of the lesser known services that CIC funds - there will be a mini destination portal on Settlement.Or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Toronto recently launched the Toronto Employment &amp; Labour Market Information (TELMI) web portal, a local labour market information website and the City of Toronto Immigration &amp; Settlement Portal, for marketing settlement information to immigra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York Region immigration portal</a:t>
            </a:r>
            <a:r>
              <a:rPr b="0" lang="en-US" sz="1800" spc="-1" strike="noStrike">
                <a:solidFill>
                  <a:srgbClr val="000000"/>
                </a:solidFill>
                <a:latin typeface="Arial"/>
              </a:rPr>
              <a:t> implemented a marketing/outreach plan in June 2010, to run until December, at which time they'll evalu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with ethnic media with targeted, translated ad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segments with local community/cable provid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kits for local agencies/service provid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ampaigns</a:t>
            </a:r>
            <a:endParaRPr b="0" lang="en-US" sz="1800" spc="-1" strike="noStrike">
              <a:solidFill>
                <a:srgbClr val="000000"/>
              </a:solidFill>
              <a:latin typeface="Arial"/>
            </a:endParaRPr>
          </a:p>
        </p:txBody>
      </p:sp>
      <p:sp>
        <p:nvSpPr>
          <p:cNvPr id="165"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urham Region immigration portal</a:t>
            </a:r>
            <a:r>
              <a:rPr b="0" lang="en-US" sz="1800" spc="-1" strike="noStrike">
                <a:solidFill>
                  <a:srgbClr val="000000"/>
                </a:solidFill>
                <a:latin typeface="Arial"/>
              </a:rPr>
              <a:t> launched in March, 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of the portal is done throug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s in 24 hours, Canadian immigrant, online, relocation guide, Goldbook (telephone boo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py swag - USB sticks, mouse pads, pens - provided to service providers, faith communities, Boards of Trade, job fairs with employers,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portal business card has also been helpful, including providing them with card holders for service providers (very popular).</a:t>
            </a:r>
            <a:endParaRPr b="0" lang="en-US" sz="1800" spc="-1" strike="noStrike">
              <a:solidFill>
                <a:srgbClr val="000000"/>
              </a:solidFill>
              <a:latin typeface="Arial"/>
            </a:endParaRPr>
          </a:p>
        </p:txBody>
      </p:sp>
      <p:sp>
        <p:nvSpPr>
          <p:cNvPr id="167"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560" y="4571640"/>
            <a:ext cx="8351640" cy="1800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initiatives could be undertaken to conduct research in these areas, in order to be able to improve the provision of employment information to un- and under-employed immigrants.</a:t>
            </a:r>
            <a:endParaRPr b="0" lang="en-US" sz="1800" spc="-1" strike="noStrike">
              <a:solidFill>
                <a:srgbClr val="000000"/>
              </a:solidFill>
              <a:latin typeface="Arial"/>
            </a:endParaRPr>
          </a:p>
        </p:txBody>
      </p:sp>
      <p:sp>
        <p:nvSpPr>
          <p:cNvPr id="169" name="PlaceHolder 1"/>
          <p:cNvSpPr>
            <a:spLocks noGrp="1"/>
          </p:cNvSpPr>
          <p:nvPr>
            <p:ph/>
          </p:nvPr>
        </p:nvSpPr>
        <p:spPr>
          <a:xfrm>
            <a:off x="457200" y="1523880"/>
            <a:ext cx="8229600" cy="289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information, but we don’t think that we have enou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ght should be shed on questions lik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mmigrants get employment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emographics are getting their information from which sources (print, online, TV/radio)? Are they finding the right employment information at their preferred sour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rgeting (and should we be targeting) under-employed immigrants with employment inform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Trends</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fontScale="96000"/>
          </a:bodyPr>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nd friends have continued to be a major source of employment and settlement information for immigrant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is evolving as a key sourc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guage media is a priority channel</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and Informal networks are important</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mployment information is being channeled thru traditional media, even less thru ethnic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advertising is still very effectiv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ranslated material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trust ethno-cultural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are looking for employment informatio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immigrants are under informed, fare worse than me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mographics matter regarding media acces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employment outcomes depend on source of employment information</a:t>
            </a:r>
            <a:endParaRPr b="0" lang="en-US" sz="1800" spc="-1" strike="noStrike">
              <a:solidFill>
                <a:srgbClr val="000000"/>
              </a:solidFill>
              <a:latin typeface="Arial"/>
            </a:endParaRPr>
          </a:p>
          <a:p>
            <a:pPr marL="58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Canada: LSIC, 2003, page 40 http://dsp-psd.pwgsc.gc.ca/Collection/Statcan/89-614-XIE/89-614-XIE2005001.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for Change Annual Report 2009/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le of internet-based social support networks in immigrant settlement – a case study of NewBridger, Julie Xiaoping Lin et al, 2010 http://ceris.metropolis.net/events/seminars/2010/20100115WangLinWangSemPres.pdf</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Programming throuogh the media, Karim H. Karim, Mahmoud Eid and Boulou Ebanda de B’beri, 2007 </a:t>
            </a:r>
            <a:r>
              <a:rPr b="0" lang="en-US" sz="1400" spc="-1" strike="noStrike">
                <a:solidFill>
                  <a:srgbClr val="000000"/>
                </a:solidFill>
                <a:latin typeface="Arial"/>
              </a:rPr>
              <a:t>http://atwork.settlement.org/sys/atwork_library_detail.asp?doc_id=1004503</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Immigrants’ Awareness of, Access to, Use of and Satisfaction with Settlement services in the York Region, Lucia Lo et al, 2010 CERIS working paper number 79 http://ceris.metropolis.net/Virtual%20Library/other/CWP79.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n the workplace, the settlement needs of employed newcomers, an exploratory study, R J Sparks Consulting Inc. and WGW Services, sponsored by COSTI Immigrant Services, 2001 http://atwork.settlement.org/downloads/Settlement_in_the_Workplace.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itiative, March 2008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of the settlement.org evaluation survey, Arnold love, June 15,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immigrant wages affected by the source of job search information? http://www.yorku.ca/tiedi/doc/AnalyticalReport7.pd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600200"/>
            <a:ext cx="3886200" cy="4572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Canada, LSIC, 2003</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762120" y="2362320"/>
          <a:ext cx="7630920" cy="3595680"/>
        </p:xfrm>
        <a:graphic>
          <a:graphicData uri="http://schemas.openxmlformats.org/presentationml/2006/ole">
            <p:oleObj progId="Excel.Sheet.12" r:id="rId1" spid="">
              <p:embed/>
              <p:pic>
                <p:nvPicPr>
                  <p:cNvPr id="99" name="" descr=""/>
                  <p:cNvPicPr/>
                  <p:nvPr/>
                </p:nvPicPr>
                <p:blipFill>
                  <a:blip r:embed="rId2"/>
                  <a:stretch/>
                </p:blipFill>
                <p:spPr>
                  <a:xfrm>
                    <a:off x="762120" y="2362320"/>
                    <a:ext cx="7630920" cy="3595680"/>
                  </a:xfrm>
                  <a:prstGeom prst="rect">
                    <a:avLst/>
                  </a:prstGeom>
                  <a:ln w="0">
                    <a:noFill/>
                  </a:ln>
                </p:spPr>
              </p:pic>
            </p:oleObj>
          </a:graphicData>
        </a:graphic>
      </p:graphicFrame>
      <p:sp>
        <p:nvSpPr>
          <p:cNvPr id="10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2"/>
          <p:cNvSpPr>
            <a:spLocks noGrp="1"/>
          </p:cNvSpPr>
          <p:nvPr>
            <p:ph/>
          </p:nvPr>
        </p:nvSpPr>
        <p:spPr>
          <a:xfrm>
            <a:off x="304920" y="1600200"/>
            <a:ext cx="624816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kills for Change Annual Report, 2009/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838080" y="2209680"/>
          <a:ext cx="7450200" cy="3657600"/>
        </p:xfrm>
        <a:graphic>
          <a:graphicData uri="http://schemas.openxmlformats.org/presentationml/2006/ole">
            <p:oleObj progId="Excel.Sheet.12" r:id="rId1" spid="">
              <p:embed/>
              <p:pic>
                <p:nvPicPr>
                  <p:cNvPr id="104" name="" descr=""/>
                  <p:cNvPicPr/>
                  <p:nvPr/>
                </p:nvPicPr>
                <p:blipFill>
                  <a:blip r:embed="rId2"/>
                  <a:stretch/>
                </p:blipFill>
                <p:spPr>
                  <a:xfrm>
                    <a:off x="838080" y="2209680"/>
                    <a:ext cx="7450200" cy="3657600"/>
                  </a:xfrm>
                  <a:prstGeom prst="rect">
                    <a:avLst/>
                  </a:prstGeom>
                  <a:ln w="0">
                    <a:noFill/>
                  </a:ln>
                </p:spPr>
              </p:pic>
            </p:oleObj>
          </a:graphicData>
        </a:graphic>
      </p:graphicFrame>
      <p:sp>
        <p:nvSpPr>
          <p:cNvPr id="10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mily and friends have continued to be a maj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ource of employment and settlement information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a:t>
            </a: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523880"/>
            <a:ext cx="3276720" cy="41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graphicFrame>
        <p:nvGraphicFramePr>
          <p:cNvPr id="109" name=""/>
          <p:cNvGraphicFramePr/>
          <p:nvPr/>
        </p:nvGraphicFramePr>
        <p:xfrm>
          <a:off x="990720" y="2057400"/>
          <a:ext cx="7315200" cy="4114800"/>
        </p:xfrm>
        <a:graphic>
          <a:graphicData uri="http://schemas.openxmlformats.org/presentationml/2006/ole">
            <p:oleObj progId="Excel.Sheet.12" r:id="rId1" spid="">
              <p:embed/>
              <p:pic>
                <p:nvPicPr>
                  <p:cNvPr id="110" name="" descr=""/>
                  <p:cNvPicPr/>
                  <p:nvPr/>
                </p:nvPicPr>
                <p:blipFill>
                  <a:blip r:embed="rId2"/>
                  <a:stretch/>
                </p:blipFill>
                <p:spPr>
                  <a:xfrm>
                    <a:off x="990720" y="2057400"/>
                    <a:ext cx="7315200" cy="4114800"/>
                  </a:xfrm>
                  <a:prstGeom prst="rect">
                    <a:avLst/>
                  </a:prstGeom>
                  <a:ln w="0">
                    <a:noFill/>
                  </a:ln>
                </p:spPr>
              </p:pic>
            </p:oleObj>
          </a:graphicData>
        </a:graphic>
      </p:graphicFrame>
      <p:sp>
        <p:nvSpPr>
          <p:cNvPr id="11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ternet is evolving as a key source of information for immigrant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914400" y="2209680"/>
          <a:ext cx="7315200" cy="3956040"/>
        </p:xfrm>
        <a:graphic>
          <a:graphicData uri="http://schemas.openxmlformats.org/presentationml/2006/ole">
            <p:oleObj progId="Excel.Sheet.12" r:id="rId1" spid="">
              <p:embed/>
              <p:pic>
                <p:nvPicPr>
                  <p:cNvPr id="113" name="" descr=""/>
                  <p:cNvPicPr/>
                  <p:nvPr/>
                </p:nvPicPr>
                <p:blipFill>
                  <a:blip r:embed="rId2"/>
                  <a:stretch/>
                </p:blipFill>
                <p:spPr>
                  <a:xfrm>
                    <a:off x="914400" y="2209680"/>
                    <a:ext cx="7315200" cy="3956040"/>
                  </a:xfrm>
                  <a:prstGeom prst="rect">
                    <a:avLst/>
                  </a:prstGeom>
                  <a:ln w="0">
                    <a:noFill/>
                  </a:ln>
                </p:spPr>
              </p:pic>
            </p:oleObj>
          </a:graphicData>
        </a:graphic>
      </p:graphicFrame>
      <p:sp>
        <p:nvSpPr>
          <p:cNvPr id="114" name=""/>
          <p:cNvSpPr/>
          <p:nvPr/>
        </p:nvSpPr>
        <p:spPr>
          <a:xfrm>
            <a:off x="380880" y="1523880"/>
            <a:ext cx="3048120" cy="41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sp>
        <p:nvSpPr>
          <p:cNvPr id="11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of Chinese and South Asian Immigrants use the internet (above national averages) and average 1.8 hours</a:t>
            </a:r>
            <a:br>
              <a:rPr sz="2000"/>
            </a:br>
            <a:r>
              <a:rPr b="0" lang="en-US" sz="2000" spc="-1" strike="noStrike">
                <a:solidFill>
                  <a:srgbClr val="000000"/>
                </a:solidFill>
                <a:latin typeface="Arial"/>
              </a:rPr>
              <a:t>online daily (also abo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people born in Canada, 75% used the Internet, compared with 66% of those born elsewhere. However, the rate was 78% among immigrants who arrived in Canada during the last 10 years. Most of these recent immigrants live in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20:13:15Z</dcterms:created>
  <dc:creator>Stephen Wilson</dc:creator>
  <dc:description/>
  <dc:language>en-US</dc:language>
  <cp:lastModifiedBy>kuziva</cp:lastModifiedBy>
  <dcterms:modified xsi:type="dcterms:W3CDTF">2010-11-01T12:52:00Z</dcterms:modified>
  <cp:revision>170</cp:revision>
  <dc:subject/>
  <dc:title>Slide 1</dc:title>
</cp:coreProperties>
</file>